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7C3-E219-4E6E-8BE6-C1A8AE33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73A-272D-4A98-8A5A-6D46ABC7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6A2-2ABD-4A69-8133-BBBBC096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B6C-02F0-4B9E-BB88-000241D7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BCE-C58B-433E-860F-AABB81F5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95C-69A6-4344-9D27-7AD93CF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9F7-B5D6-44C2-8213-9DE56BC2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E0E-999B-4140-A666-039EEFCE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B2C-931D-4991-858E-368C872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7E6-FD6B-4B08-899F-951DE905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7D3-E0CB-4E4D-ACEE-7475D2D6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DF7-1B54-488A-B90D-314442C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189C-E21E-4A88-A1C3-FF8739D6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mmigrants flocked to the nation’s cities becaus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immigrant processing center in California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l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lis Is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el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mp Da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immigrant processing center in California w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l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el Is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vement whose main aim was to assimi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igrants was the ________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Go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vement whose main aim was to assimi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migrants was the ________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Go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new form of housing conserved spac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ing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-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new form of housing conserved spac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ing c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mmany Hall was the location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s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mmany Hall was the location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t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itic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d applicants to pass an exam to ge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dlet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-Gorma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Kinle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essy v. Fergu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d applicants to pass an exam to ge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dleto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son-Gorman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tor that prevent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ea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mber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attending public high school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actor that prevent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eat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mber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attending public high school 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the Grandfather Clause, Southern white men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 even if they could not meet which requir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al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pe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l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 the Grandfather Clause, Southern white men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e even if they could not meet which require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peo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ll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ies in the late 19 century expanded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all of the following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ies in the late 19 century expanded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all of the following 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bri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 Burnham’s plan for the 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hicago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 front par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dden electric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ocks of 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 Burnham’s plan for the 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hicago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ke front park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er Bessemer Process steel made which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w h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tlement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er Bessemer Process steel made which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vention largely contributed to a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f independence for wom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kyscr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dak cam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nvention largely contributed to a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f independence for wom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were popular around the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centu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de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usement p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were popular around the 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centu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ude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essy v. Fergus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d that _________ was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y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al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as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essy v. Fergus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 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d that _________ was leg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cial eti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immigrants flocked to the nation’s cities becaus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sch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dy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ient 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ich cultur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6-10-30T19:09:23Z</dcterms:modified>
  <cp:revision>188</cp:revision>
  <dc:subject/>
  <dc:title>PowerPoint Presentation</dc:title>
</cp:coreProperties>
</file>